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5203-80A4-41D6-8282-1E60B7482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E117-2537-48D3-A804-19BACC5398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6908-1940-4B87-8851-2AF03A4336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5297-DDE9-4D37-8E5B-E8A6F08D79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9B87-8DDE-4EC6-823D-72A3E1493A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3068-3382-4E97-B7F0-7347A06E6D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585-E558-463F-A107-F30755243C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D6D1-7C15-4E42-AA1C-A0E0E8377A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EE0A-6878-4FE2-B92D-C57E43A68B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14F9-6602-4CD2-9CE4-0BEC4F101B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F3FE-5AB1-46EC-8C5F-149D9D681F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C71-06EA-4995-B093-97453BAD6F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AE4D-F5A6-4E27-A3C5-BFFCF65E31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99E3-520E-4916-B106-EA3C256F64E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B975-2C4D-4A6A-BF61-0DD2E8FDFF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31C5-B0EA-4B38-ACC5-A05F3D33FB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519C-647B-42EB-99B5-B4BA46DB6B7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EC88-5E55-416F-92B3-010B56472C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057B-1FA8-4749-995D-483D6920FF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2512-D6DD-4D02-AF28-E81A06F216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66A6-B8C7-4931-9264-13D70E9BD1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B0FB-4C01-47FF-B496-D855E45CA2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D978-612A-4FD5-B69B-795CF697E3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E64F-ACBD-4130-96DA-EB17B5E6DE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F04B-2011-477C-B0D8-BC3BDE876C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9489-C932-47EC-A7A0-9A98E2D7D7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DA3B-6C27-40E8-B972-5E1C20CCD7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F8E3-C376-47F0-A7E1-F0BB7469F98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5471-B335-4DAE-BB31-A944C73DAD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5DF2-E969-4E5F-B707-6A4F172510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99AB-9B4F-4EEF-90E5-0A3071710F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E4BC-CF64-42D8-8F11-F77E7022313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A828-E607-46EC-9B6D-1A1EA3E59D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5CA5-F0EC-4EAC-9611-0488B8C76C7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5232-EF10-4D1A-AEAF-C6D0E4AECFC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B919-AAE1-4CF0-B1FD-B511574ECC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3B1A-CF7F-4421-A37C-33DC0B3C1F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6345-F6C6-4AFC-AB2B-19D3E775547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6EE0-432B-4FD8-978B-C179BB8FE0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45FA-B4F1-4C7B-B1AD-10B52A5AEC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2E31-9D9C-4BA6-8633-C7854DA134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A7CE-C261-4B7D-98B4-73ADCB0ACD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0BE5-969F-40F4-BF77-A494CAFB3C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A356-74E9-4ABE-8F44-45FFEC474C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7160-5D24-41E1-A404-22425E7F32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EBA1-5847-415F-9F73-A019FC74C9B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35DA-0F17-4B29-8374-6B79717927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6546-726A-414F-BE78-BF6E44DEF4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D7F0-0D73-45E1-B33D-6C54A5D355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B2EC-6736-4805-829A-9850BA24B1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3DCE-4F38-4BF6-8F38-39FB13DD84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8A2C-439C-4688-8638-C0D00BB74D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123A-CA85-4921-A61C-BA67D78E4C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8250-9801-4DB3-AD6B-E7BC21C977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CA6-3FC7-4099-8A57-AE64F7C2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279-0468-4E0B-A479-3DA8F223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C06-31AC-4190-8CE7-B7B224FA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802-DFE6-4731-B535-35C531CE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0D6-3C95-4EE9-BB6D-F85F12CD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A4D-A190-47B7-86F2-C785B21F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B87-5CBE-4A8E-BD2A-B64C5FDA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F2A-F67B-47A0-B3D6-19AAF417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0B0-4093-47F5-9F2D-8D5A3D19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733-C386-4DA3-8B0B-DE516B04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D57-9732-47FC-AE02-96B487ED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ACC-2151-4CBE-8A11-462CB326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C421-1EB3-4537-83EF-4AB3BD4BD31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9-11-06T10:04:15Z</dcterms:modified>
  <cp:revision>115</cp:revision>
  <dc:subject/>
  <dc:title>Aims and Objectives</dc:title>
</cp:coreProperties>
</file>